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D25-7C6D-4FF5-A7F1-05D1201E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D0A-58D0-4DFD-A761-92948B4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696-BDDB-4205-9946-94E47C38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749-BAF5-4359-B667-29A4BC7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228-436F-4E28-AA97-D80E33B3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BC1-34D8-4FDE-957C-4350092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E272-1CF0-44CF-93D8-0F0FCE6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FE46-DB36-4EF2-B305-9FC3CA18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9F5C-6380-47D9-8047-7F641B7F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680C-2EDF-472C-949B-730303D0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C5D2-14DB-4F69-8844-C6CF95D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C49-DF11-4D53-8F55-741264B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6B0-4896-4AE4-B550-D933169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A25-0B55-49C6-91DF-DAA6022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B5D-C39D-4048-B1EC-07F64F05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44F1-71DC-4E79-AFD4-8C484AA7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1B8-F206-4C19-9850-53DD4DA1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768-BE6D-44CB-92DA-7D616E3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1F4-F5D8-4C2B-9627-91A44264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C8A-E43F-40AB-AEEC-A14ABDE7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BCB-8E86-4405-ADDD-1046B43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B96-EA4B-4737-B3FE-5D2B74A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C81-0F0A-48DF-BA0F-594E16A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640-C262-4EAC-B761-B869B67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F45-D9F8-446D-88F4-5C46CB2909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F1D0-C353-4BFB-8552-6B98FDB754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Me llamo _________ Clase 7 IM</a:t>
            </a:r>
            <a:br>
              <a:rPr sz="4000"/>
            </a:br>
            <a:r>
              <a:rPr b="0" lang="en-US" sz="4000" spc="-1" strike="noStrike">
                <a:solidFill>
                  <a:srgbClr val="58be67"/>
                </a:solidFill>
                <a:latin typeface="Arial"/>
              </a:rPr>
              <a:t>La fecha es el 2 de diciembre del 2011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Propósito # 26: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¿Como practicamos lo que estamos aprendiend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eer p. 100-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B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p. 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8031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be67"/>
                </a:solidFill>
                <a:latin typeface="Times New Roman"/>
              </a:rPr>
              <a:t>I-</a:t>
            </a:r>
            <a:r>
              <a:rPr b="0" i="1" lang="en-US" sz="2800" spc="-1" strike="noStrike">
                <a:solidFill>
                  <a:srgbClr val="58be67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jugate the following verbs in the Pres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1447920"/>
          <a:ext cx="8763120" cy="52783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58be67"/>
                          </a:solidFill>
                          <a:latin typeface="Verdana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c0c64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be67"/>
                </a:solidFill>
                <a:latin typeface="Times New Roman"/>
              </a:rPr>
              <a:t>II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sente Progres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e parts of the PRESENTE PROGRESIV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Estar” conjugated in the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present participle” according to end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5909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Es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5891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-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25124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ER/-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-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00400"/>
            <a:ext cx="3048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Traer/L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III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Saber” y “Conocer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Sa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a fact or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how to do some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When followed by a question w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To know something by heart </a:t>
            </a:r>
            <a:r>
              <a:rPr b="0" i="1" lang="en-US" sz="2800" spc="-1" strike="noStrike">
                <a:solidFill>
                  <a:srgbClr val="ff66ff"/>
                </a:solidFill>
                <a:latin typeface="Verdana"/>
              </a:rPr>
              <a:t>(memor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o you use “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oc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To know someone or something very we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hen talking about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person, don’t forget to add an “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” after ‘</a:t>
            </a:r>
            <a:r>
              <a:rPr b="0" i="1" lang="en-US" sz="2800" spc="-1" strike="noStrike">
                <a:solidFill>
                  <a:srgbClr val="ff6600"/>
                </a:solidFill>
                <a:latin typeface="Verdana"/>
              </a:rPr>
              <a:t>conocer’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conjugate these verb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143000"/>
          <a:ext cx="8229240" cy="51811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Sab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Conoc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 (1-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jercicio 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. 103(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46-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7638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40:30Z</dcterms:created>
  <dc:creator>Helen Zumaeta</dc:creator>
  <dc:description/>
  <dc:language>en-US</dc:language>
  <cp:lastModifiedBy>Helen Zumaeta</cp:lastModifiedBy>
  <dcterms:modified xsi:type="dcterms:W3CDTF">2011-12-02T03:26:38Z</dcterms:modified>
  <cp:revision>5</cp:revision>
  <dc:subject/>
  <dc:title>Me llamo _________ Clase 7 IM La fecha es el 2 de diciembre del 2011</dc:title>
</cp:coreProperties>
</file>